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8EA-C8E2-4DD6-AFCE-45AFB673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B12-2B6E-441E-B02C-C280462D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6CF-6A2F-4FE5-BFC6-879C0F95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50D-D259-4759-BF60-221FFC83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395-AD4D-4E67-A0FC-F0BC4B4F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3F2-479E-4166-A844-4A146854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A61-4FDA-48CC-8A8E-817A5765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D30-EDFE-49E5-A788-6840225C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B1D-3FF8-4A74-AC74-E422973E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4C3-234E-4A1A-9391-22CCFE15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A84-53C3-4D64-A4C8-3B7C4701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B2F-DCFF-47C7-A1F7-278696B4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8C36-3931-4D31-85DF-65B6CD975A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151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30000"/>
              </a:lnSpc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Arial"/>
                <a:cs typeface="????Boutros Rokaa"/>
              </a:rPr>
              <a:t>إني حبة القمح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1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إِنّي حَبَّةُ القَمْحِ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ذُقْتُ الْمَوْتَ كَيْ أَحْيَا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قَلْبي مِن طَعْنِ الرُّمْحِ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أَسْقَى حُبَّهُ الدُّنْيَا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قُوتاً رُوحياً حَيّا.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ِلرُّسْلِ قَالَ الرَّبُ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ِمْ أَنْتُمْ مَحْزونون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ا تَأْسَوْا لا تَغْتَمّو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ا سُلْطَانَ فِي الدُّنْي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َغْلِبُ الْمُحِبّين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-17136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1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المجدِ يَومِي آتٍ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طَالِعٌ مِن بَحْرِ النّورِ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فِي خَفْقِ نَصْرٍ حَيّ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يَعْلو هاماتِ الدّهور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إِذ إِنّي نُورٌ مِن نُور.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9:30:44Z</dcterms:created>
  <dc:creator>Charbel Azar</dc:creator>
  <dc:description/>
  <dc:language>en-US</dc:language>
  <cp:lastModifiedBy>-</cp:lastModifiedBy>
  <dcterms:modified xsi:type="dcterms:W3CDTF">2003-01-17T08:42:37Z</dcterms:modified>
  <cp:revision>6</cp:revision>
  <dc:subject/>
  <dc:title>Slide 1</dc:title>
</cp:coreProperties>
</file>